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301-57C5-4EAB-B4BA-B69AD1C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781-95B3-40F6-B02C-B874FDA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BD0-2CBB-4F71-AA1F-15304AE9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8C4-1C7C-4263-9686-436D5C8E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CBC-3BC7-48AA-A6CC-8D1528B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43D-779D-4CC4-A4C0-79012E8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AA7-C6C7-4310-A484-0D935FC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6B4-6AEE-4F60-8BE7-C6A1C985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3C5-C1D0-4BC3-B760-B57E3B9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A3E-644A-4DB2-9FAF-BC60E88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328-DD88-4D8E-A1EA-C57DFDC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6D2-F23E-414D-9E59-0C98FA5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512-7198-4399-A774-DA2EAA35E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914840" y="3970440"/>
            <a:ext cx="50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两个一次函数的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5004"/>
          <p:cNvSpPr/>
          <p:nvPr/>
        </p:nvSpPr>
        <p:spPr>
          <a:xfrm>
            <a:off x="755640" y="692280"/>
            <a:ext cx="770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00000" y="763560"/>
            <a:ext cx="7559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按甲旅行社的优惠条件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按乙旅行社的优惠条件，应付费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．问题变为比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828720" y="2997360"/>
            <a:ext cx="748836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一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选甲旅行社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乙旅行社，应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内作出两个函数的图象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682560" y="549360"/>
            <a:ext cx="36734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乙旅行社费用较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0"/>
          <p:cNvGrpSpPr/>
          <p:nvPr/>
        </p:nvGrpSpPr>
        <p:grpSpPr>
          <a:xfrm>
            <a:off x="4375080" y="1197000"/>
            <a:ext cx="4804920" cy="3753720"/>
            <a:chOff x="4375080" y="1197000"/>
            <a:chExt cx="4804920" cy="3753720"/>
          </a:xfrm>
        </p:grpSpPr>
        <p:sp>
          <p:nvSpPr>
            <p:cNvPr id="152" name="Text Box 20"/>
            <p:cNvSpPr/>
            <p:nvPr/>
          </p:nvSpPr>
          <p:spPr>
            <a:xfrm>
              <a:off x="8219520" y="458244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／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9"/>
            <p:cNvGrpSpPr/>
            <p:nvPr/>
          </p:nvGrpSpPr>
          <p:grpSpPr>
            <a:xfrm>
              <a:off x="4375080" y="1197000"/>
              <a:ext cx="4803840" cy="3753720"/>
              <a:chOff x="4375080" y="1197000"/>
              <a:chExt cx="4803840" cy="3753720"/>
            </a:xfrm>
          </p:grpSpPr>
          <p:sp>
            <p:nvSpPr>
              <p:cNvPr id="154" name="Text Box 15"/>
              <p:cNvSpPr/>
              <p:nvPr/>
            </p:nvSpPr>
            <p:spPr>
              <a:xfrm>
                <a:off x="6572520" y="458244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6937560" y="4582440"/>
                <a:ext cx="54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4375080" y="1197000"/>
                <a:ext cx="4803840" cy="3744720"/>
                <a:chOff x="4375080" y="1197000"/>
                <a:chExt cx="4803840" cy="3744720"/>
              </a:xfrm>
            </p:grpSpPr>
            <p:sp>
              <p:nvSpPr>
                <p:cNvPr id="157" name="Text Box 21"/>
                <p:cNvSpPr/>
                <p:nvPr/>
              </p:nvSpPr>
              <p:spPr>
                <a:xfrm>
                  <a:off x="5083200" y="1197000"/>
                  <a:ext cx="10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y</a:t>
                  </a:r>
                  <a:r>
                    <a:rPr b="1" lang="zh-CN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／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2"/>
                <p:cNvSpPr/>
                <p:nvPr/>
              </p:nvSpPr>
              <p:spPr>
                <a:xfrm>
                  <a:off x="4507920" y="4033080"/>
                  <a:ext cx="73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375080" y="36662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5"/>
                <p:cNvSpPr/>
                <p:nvPr/>
              </p:nvSpPr>
              <p:spPr>
                <a:xfrm>
                  <a:off x="4375080" y="29340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26"/>
                <p:cNvSpPr/>
                <p:nvPr/>
              </p:nvSpPr>
              <p:spPr>
                <a:xfrm>
                  <a:off x="4375080" y="3301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4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4375080" y="2617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8"/>
                <p:cNvSpPr/>
                <p:nvPr/>
              </p:nvSpPr>
              <p:spPr>
                <a:xfrm>
                  <a:off x="4375080" y="229428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29"/>
                <p:cNvSpPr/>
                <p:nvPr/>
              </p:nvSpPr>
              <p:spPr>
                <a:xfrm>
                  <a:off x="4375080" y="19634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37"/>
                <p:cNvGrpSpPr/>
                <p:nvPr/>
              </p:nvGrpSpPr>
              <p:grpSpPr>
                <a:xfrm>
                  <a:off x="4740120" y="1414800"/>
                  <a:ext cx="4438800" cy="3526920"/>
                  <a:chOff x="4740120" y="1414800"/>
                  <a:chExt cx="4438800" cy="3526920"/>
                </a:xfrm>
              </p:grpSpPr>
              <p:grpSp>
                <p:nvGrpSpPr>
                  <p:cNvPr id="166" name="Group 9"/>
                  <p:cNvGrpSpPr/>
                  <p:nvPr/>
                </p:nvGrpSpPr>
                <p:grpSpPr>
                  <a:xfrm>
                    <a:off x="4923360" y="1414800"/>
                    <a:ext cx="3936600" cy="3202200"/>
                    <a:chOff x="4923360" y="1414800"/>
                    <a:chExt cx="3936600" cy="3202200"/>
                  </a:xfrm>
                </p:grpSpPr>
                <p:grpSp>
                  <p:nvGrpSpPr>
                    <p:cNvPr id="167" name="Group 8"/>
                    <p:cNvGrpSpPr/>
                    <p:nvPr/>
                  </p:nvGrpSpPr>
                  <p:grpSpPr>
                    <a:xfrm>
                      <a:off x="5015160" y="1414800"/>
                      <a:ext cx="3124080" cy="3202200"/>
                      <a:chOff x="5015160" y="1414800"/>
                      <a:chExt cx="3124080" cy="3202200"/>
                    </a:xfrm>
                  </p:grpSpPr>
                  <p:pic>
                    <p:nvPicPr>
                      <p:cNvPr id="168" name="Picture 5" descr="学科网(www.zxxk.com)--教育资源门户，提供试卷、教案、课件、论文、素材及各类教学资源下载，还有大量而丰富的教学相关资讯！"/>
                      <p:cNvPicPr/>
                      <p:nvPr/>
                    </p:nvPicPr>
                    <p:blipFill>
                      <a:blip r:embed="rId1">
                        <a:lum bright="-72000"/>
                      </a:blip>
                      <a:stretch/>
                    </p:blipFill>
                    <p:spPr>
                      <a:xfrm>
                        <a:off x="5015520" y="1779840"/>
                        <a:ext cx="3123720" cy="278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5015160" y="1414800"/>
                        <a:ext cx="360" cy="3202200"/>
                        <a:chOff x="5015160" y="1414800"/>
                        <a:chExt cx="360" cy="3202200"/>
                      </a:xfrm>
                    </p:grpSpPr>
                    <p:sp>
                      <p:nvSpPr>
                        <p:cNvPr id="170" name="Line 6"/>
                        <p:cNvSpPr/>
                        <p:nvPr/>
                      </p:nvSpPr>
                      <p:spPr>
                        <a:xfrm flipV="1">
                          <a:off x="5015520" y="1414800"/>
                          <a:ext cx="0" cy="3202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80"/>
                          </a:solidFill>
                          <a:round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 txBox="1"/>
                        <p:nvPr/>
                      </p:nvSpPr>
                      <p:spPr>
                        <a:xfrm rot="10800000">
                          <a:off x="5015160" y="1414800"/>
                          <a:ext cx="360" cy="3202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923360" y="4524840"/>
                      <a:ext cx="3936600" cy="360"/>
                      <a:chOff x="4923360" y="4524840"/>
                      <a:chExt cx="3936600" cy="360"/>
                    </a:xfrm>
                  </p:grpSpPr>
                  <p:sp>
                    <p:nvSpPr>
                      <p:cNvPr id="173" name="Line 7"/>
                      <p:cNvSpPr/>
                      <p:nvPr/>
                    </p:nvSpPr>
                    <p:spPr>
                      <a:xfrm>
                        <a:off x="4923360" y="4524840"/>
                        <a:ext cx="3936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8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 txBox="1"/>
                      <p:nvPr/>
                    </p:nvSpPr>
                    <p:spPr>
                      <a:xfrm>
                        <a:off x="4923360" y="4524840"/>
                        <a:ext cx="39366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5" name="Text Box 10"/>
                  <p:cNvSpPr/>
                  <p:nvPr/>
                </p:nvSpPr>
                <p:spPr>
                  <a:xfrm>
                    <a:off x="4740120" y="448272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 Box 11"/>
                  <p:cNvSpPr/>
                  <p:nvPr/>
                </p:nvSpPr>
                <p:spPr>
                  <a:xfrm>
                    <a:off x="5106960" y="4555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2"/>
                  <p:cNvSpPr/>
                  <p:nvPr/>
                </p:nvSpPr>
                <p:spPr>
                  <a:xfrm>
                    <a:off x="5472360" y="4555440"/>
                    <a:ext cx="73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13"/>
                  <p:cNvSpPr/>
                  <p:nvPr/>
                </p:nvSpPr>
                <p:spPr>
                  <a:xfrm>
                    <a:off x="5839560" y="4573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4"/>
                  <p:cNvSpPr/>
                  <p:nvPr/>
                </p:nvSpPr>
                <p:spPr>
                  <a:xfrm>
                    <a:off x="6204600" y="4561200"/>
                    <a:ext cx="457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Text Box 17"/>
                  <p:cNvSpPr/>
                  <p:nvPr/>
                </p:nvSpPr>
                <p:spPr>
                  <a:xfrm>
                    <a:off x="7211880" y="4561200"/>
                    <a:ext cx="822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Text Box 18"/>
                  <p:cNvSpPr/>
                  <p:nvPr/>
                </p:nvSpPr>
                <p:spPr>
                  <a:xfrm>
                    <a:off x="7576920" y="4525200"/>
                    <a:ext cx="63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944480" y="4525200"/>
                    <a:ext cx="913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014440" y="1872360"/>
                    <a:ext cx="2655360" cy="2652120"/>
                    <a:chOff x="5014440" y="1872360"/>
                    <a:chExt cx="2655360" cy="2652120"/>
                  </a:xfrm>
                </p:grpSpPr>
                <p:sp>
                  <p:nvSpPr>
                    <p:cNvPr id="184" name="Line 30"/>
                    <p:cNvSpPr/>
                    <p:nvPr/>
                  </p:nvSpPr>
                  <p:spPr>
                    <a:xfrm flipV="1">
                      <a:off x="5014440" y="1872360"/>
                      <a:ext cx="2655360" cy="26521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 txBox="1"/>
                    <p:nvPr/>
                  </p:nvSpPr>
                  <p:spPr>
                    <a:xfrm rot="10800000">
                      <a:off x="5014440" y="1872360"/>
                      <a:ext cx="2655360" cy="265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014440" y="1872720"/>
                    <a:ext cx="2929680" cy="2287080"/>
                    <a:chOff x="5014440" y="1872720"/>
                    <a:chExt cx="2929680" cy="2287080"/>
                  </a:xfrm>
                </p:grpSpPr>
                <p:sp>
                  <p:nvSpPr>
                    <p:cNvPr id="187" name="Line 32"/>
                    <p:cNvSpPr/>
                    <p:nvPr/>
                  </p:nvSpPr>
                  <p:spPr>
                    <a:xfrm flipH="1">
                      <a:off x="5014440" y="1872720"/>
                      <a:ext cx="2929680" cy="22870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 txBox="1"/>
                    <p:nvPr/>
                  </p:nvSpPr>
                  <p:spPr>
                    <a:xfrm>
                      <a:off x="5014440" y="1872720"/>
                      <a:ext cx="2929680" cy="228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Text Box 34"/>
                  <p:cNvSpPr/>
                  <p:nvPr/>
                </p:nvSpPr>
                <p:spPr>
                  <a:xfrm>
                    <a:off x="6114240" y="2147400"/>
                    <a:ext cx="1555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 80</a:t>
                    </a: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36"/>
                  <p:cNvSpPr/>
                  <p:nvPr/>
                </p:nvSpPr>
                <p:spPr>
                  <a:xfrm>
                    <a:off x="7028280" y="2695680"/>
                    <a:ext cx="2150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= 60</a:t>
                    </a: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1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8"/>
          <p:cNvSpPr/>
          <p:nvPr/>
        </p:nvSpPr>
        <p:spPr>
          <a:xfrm>
            <a:off x="90000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 ，选择乙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692280"/>
            <a:ext cx="669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选择甲、乙旅行社费用之差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(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)=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画出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下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34920" y="2340000"/>
            <a:ext cx="4247640" cy="3825360"/>
            <a:chOff x="34920" y="2340000"/>
            <a:chExt cx="4247640" cy="3825360"/>
          </a:xfrm>
        </p:grpSpPr>
        <p:pic>
          <p:nvPicPr>
            <p:cNvPr id="194" name="Picture 5" descr="学科网(www.zxxk.com)--教育资源门户，提供试卷、教案、课件、论文、素材及各类教学资源下载，还有大量而丰富的教学相关资讯！"/>
            <p:cNvPicPr/>
            <p:nvPr/>
          </p:nvPicPr>
          <p:blipFill>
            <a:blip r:embed="rId1"/>
            <a:stretch/>
          </p:blipFill>
          <p:spPr>
            <a:xfrm>
              <a:off x="373680" y="3020040"/>
              <a:ext cx="3142800" cy="27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34920" y="3699720"/>
              <a:ext cx="3736440" cy="360"/>
              <a:chOff x="34920" y="3699720"/>
              <a:chExt cx="3736440" cy="360"/>
            </a:xfrm>
          </p:grpSpPr>
          <p:sp>
            <p:nvSpPr>
              <p:cNvPr id="196" name="Line 6"/>
              <p:cNvSpPr/>
              <p:nvPr/>
            </p:nvSpPr>
            <p:spPr>
              <a:xfrm>
                <a:off x="34920" y="3699720"/>
                <a:ext cx="3736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920" y="3699720"/>
                <a:ext cx="37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053360" y="2594880"/>
              <a:ext cx="360" cy="3570480"/>
              <a:chOff x="1053360" y="2594880"/>
              <a:chExt cx="360" cy="3570480"/>
            </a:xfrm>
          </p:grpSpPr>
          <p:sp>
            <p:nvSpPr>
              <p:cNvPr id="199" name="Line 7"/>
              <p:cNvSpPr/>
              <p:nvPr/>
            </p:nvSpPr>
            <p:spPr>
              <a:xfrm flipV="1">
                <a:off x="1053720" y="2594880"/>
                <a:ext cx="0" cy="357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1053360" y="2594880"/>
                <a:ext cx="360" cy="357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9"/>
            <p:cNvSpPr/>
            <p:nvPr/>
          </p:nvSpPr>
          <p:spPr>
            <a:xfrm>
              <a:off x="759960" y="369972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478880" y="3699720"/>
              <a:ext cx="7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2158920" y="36997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2836800" y="36997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58280" y="3954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458280" y="429372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8"/>
            <p:cNvSpPr/>
            <p:nvPr/>
          </p:nvSpPr>
          <p:spPr>
            <a:xfrm>
              <a:off x="458280" y="4634640"/>
              <a:ext cx="7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458280" y="497376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8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0"/>
            <p:cNvSpPr/>
            <p:nvPr/>
          </p:nvSpPr>
          <p:spPr>
            <a:xfrm>
              <a:off x="373680" y="522864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1"/>
            <p:cNvSpPr/>
            <p:nvPr/>
          </p:nvSpPr>
          <p:spPr>
            <a:xfrm>
              <a:off x="712800" y="23400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3603240" y="36140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053360" y="3189960"/>
              <a:ext cx="2294640" cy="2208600"/>
              <a:chOff x="1053360" y="3189960"/>
              <a:chExt cx="2294640" cy="2208600"/>
            </a:xfrm>
          </p:grpSpPr>
          <p:sp>
            <p:nvSpPr>
              <p:cNvPr id="213" name="Line 23"/>
              <p:cNvSpPr/>
              <p:nvPr/>
            </p:nvSpPr>
            <p:spPr>
              <a:xfrm flipV="1">
                <a:off x="1053720" y="3189960"/>
                <a:ext cx="2294280" cy="220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053360" y="3189960"/>
                <a:ext cx="2294280" cy="220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25"/>
            <p:cNvSpPr/>
            <p:nvPr/>
          </p:nvSpPr>
          <p:spPr>
            <a:xfrm>
              <a:off x="1883160" y="437976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= 20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7"/>
          <p:cNvSpPr/>
          <p:nvPr/>
        </p:nvSpPr>
        <p:spPr>
          <a:xfrm>
            <a:off x="3851280" y="2584440"/>
            <a:ext cx="511344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由图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609480" y="1054080"/>
            <a:ext cx="740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移动公司对于移动话费推出两种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每月收取基本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另收通话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 零月租费，通话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方案所付话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通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坐标系画出这两个函数的图象，并指出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付费方式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1"/>
          <p:cNvSpPr/>
          <p:nvPr/>
        </p:nvSpPr>
        <p:spPr>
          <a:xfrm>
            <a:off x="716040" y="62064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457200" y="609480"/>
            <a:ext cx="7086600" cy="1117800"/>
            <a:chOff x="457200" y="609480"/>
            <a:chExt cx="7086600" cy="1117800"/>
          </a:xfrm>
        </p:grpSpPr>
        <p:sp>
          <p:nvSpPr>
            <p:cNvPr id="220" name="Text Box 5"/>
            <p:cNvSpPr/>
            <p:nvPr/>
          </p:nvSpPr>
          <p:spPr>
            <a:xfrm>
              <a:off x="457200" y="609480"/>
              <a:ext cx="7086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 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 </a:t>
              </a: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5+0.2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3540240" y="1218960"/>
              <a:ext cx="234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0.3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1939680" y="1905120"/>
            <a:ext cx="2856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这两个函数的图象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7937640" y="56721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4"/>
          <p:cNvGrpSpPr/>
          <p:nvPr/>
        </p:nvGrpSpPr>
        <p:grpSpPr>
          <a:xfrm>
            <a:off x="4743360" y="2600280"/>
            <a:ext cx="3384720" cy="3531600"/>
            <a:chOff x="4743360" y="2600280"/>
            <a:chExt cx="3384720" cy="3531600"/>
          </a:xfrm>
        </p:grpSpPr>
        <p:sp>
          <p:nvSpPr>
            <p:cNvPr id="225" name="Line 15"/>
            <p:cNvSpPr/>
            <p:nvPr/>
          </p:nvSpPr>
          <p:spPr>
            <a:xfrm>
              <a:off x="4743360" y="5672160"/>
              <a:ext cx="338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5314680" y="2782440"/>
              <a:ext cx="0" cy="309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6076800" y="561060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6847200" y="560844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7625160" y="561672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H="1">
              <a:off x="5250960" y="37033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H="1">
              <a:off x="5240160" y="51735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H="1">
              <a:off x="5250960" y="465588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H="1">
              <a:off x="5250960" y="41479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4950000" y="567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5847480" y="5672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737208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652752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784040" y="4965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799880" y="446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3"/>
            <p:cNvSpPr/>
            <p:nvPr/>
          </p:nvSpPr>
          <p:spPr>
            <a:xfrm>
              <a:off x="5422320" y="26002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4833000" y="3004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 flipH="1">
              <a:off x="5250960" y="31953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7"/>
            <p:cNvSpPr/>
            <p:nvPr/>
          </p:nvSpPr>
          <p:spPr>
            <a:xfrm>
              <a:off x="4811760" y="3919320"/>
              <a:ext cx="7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4825440" y="344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2"/>
          <p:cNvGrpSpPr/>
          <p:nvPr/>
        </p:nvGrpSpPr>
        <p:grpSpPr>
          <a:xfrm>
            <a:off x="5190480" y="3195360"/>
            <a:ext cx="2819880" cy="2494080"/>
            <a:chOff x="5190480" y="3195360"/>
            <a:chExt cx="2819880" cy="2494080"/>
          </a:xfrm>
        </p:grpSpPr>
        <p:sp>
          <p:nvSpPr>
            <p:cNvPr id="246" name="Rectangle 29"/>
            <p:cNvSpPr/>
            <p:nvPr/>
          </p:nvSpPr>
          <p:spPr>
            <a:xfrm>
              <a:off x="5190480" y="48088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1"/>
            <p:cNvSpPr/>
            <p:nvPr/>
          </p:nvSpPr>
          <p:spPr>
            <a:xfrm>
              <a:off x="6702480" y="3824640"/>
              <a:ext cx="24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2"/>
            <p:cNvSpPr/>
            <p:nvPr/>
          </p:nvSpPr>
          <p:spPr>
            <a:xfrm flipV="1">
              <a:off x="6842160" y="3925440"/>
              <a:ext cx="0" cy="176400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 flipH="1">
              <a:off x="5305320" y="3913200"/>
              <a:ext cx="1510920" cy="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 flipV="1">
              <a:off x="5319000" y="3195360"/>
              <a:ext cx="2691360" cy="17283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48"/>
          <p:cNvSpPr/>
          <p:nvPr/>
        </p:nvSpPr>
        <p:spPr>
          <a:xfrm>
            <a:off x="5484960" y="3457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15+0.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9"/>
          <p:cNvSpPr/>
          <p:nvPr/>
        </p:nvSpPr>
        <p:spPr>
          <a:xfrm>
            <a:off x="76442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 = 0.5</a:t>
            </a: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5292720" y="3071880"/>
            <a:ext cx="2708280" cy="2611440"/>
            <a:chOff x="5292720" y="3071880"/>
            <a:chExt cx="2708280" cy="2611440"/>
          </a:xfrm>
        </p:grpSpPr>
        <p:sp>
          <p:nvSpPr>
            <p:cNvPr id="254" name="Line 77"/>
            <p:cNvSpPr/>
            <p:nvPr/>
          </p:nvSpPr>
          <p:spPr>
            <a:xfrm flipV="1">
              <a:off x="5301000" y="3071880"/>
              <a:ext cx="2700000" cy="2611440"/>
            </a:xfrm>
            <a:prstGeom prst="line">
              <a:avLst/>
            </a:prstGeom>
            <a:ln w="190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6695640" y="4037040"/>
              <a:ext cx="3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 flipH="1">
              <a:off x="5292720" y="4147560"/>
              <a:ext cx="154800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299200" y="3429000"/>
            <a:ext cx="2325600" cy="2232000"/>
            <a:chOff x="5299200" y="3429000"/>
            <a:chExt cx="2325600" cy="2232000"/>
          </a:xfrm>
        </p:grpSpPr>
        <p:sp>
          <p:nvSpPr>
            <p:cNvPr id="258" name="Line 44"/>
            <p:cNvSpPr/>
            <p:nvPr/>
          </p:nvSpPr>
          <p:spPr>
            <a:xfrm flipH="1">
              <a:off x="5299200" y="3444840"/>
              <a:ext cx="2304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4"/>
            <p:cNvSpPr/>
            <p:nvPr/>
          </p:nvSpPr>
          <p:spPr>
            <a:xfrm flipV="1">
              <a:off x="7624800" y="3429000"/>
              <a:ext cx="0" cy="223200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4"/>
          <p:cNvSpPr/>
          <p:nvPr/>
        </p:nvSpPr>
        <p:spPr>
          <a:xfrm>
            <a:off x="858960" y="2546280"/>
            <a:ext cx="367344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用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少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合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多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合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99"/>
          <p:cNvSpPr/>
          <p:nvPr/>
        </p:nvSpPr>
        <p:spPr>
          <a:xfrm>
            <a:off x="250920" y="549360"/>
            <a:ext cx="85089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和小明周六到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滨湖湿地公园春游，小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骑自行车去湿地公园，小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乘车沿相同路线去滨湖湿地公园，在同一直角坐标系中，小亮和小明的行进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函数图象如图所示．根据图象得到结论，其中错误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24" descr="菁优网：http://www.jyeoo.com"/>
          <p:cNvPicPr/>
          <p:nvPr/>
        </p:nvPicPr>
        <p:blipFill>
          <a:blip r:embed="rId1"/>
          <a:stretch/>
        </p:blipFill>
        <p:spPr>
          <a:xfrm>
            <a:off x="6948360" y="3213000"/>
            <a:ext cx="1866960" cy="15336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324000" y="2997360"/>
            <a:ext cx="65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骑自行车的平均速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到达滨湖湿地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明在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追上小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与小亮相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"/>
          <p:cNvSpPr/>
          <p:nvPr/>
        </p:nvSpPr>
        <p:spPr>
          <a:xfrm>
            <a:off x="108000" y="622440"/>
            <a:ext cx="9004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函数图象小亮去滨湖湿地公园所用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骑自行车的平均速度为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4÷2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得，小明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=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小时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到达滨湖湿地公园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追上小亮，此时小亮离开学校的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走的路程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×12=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在距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出追上小亮，故正确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的路程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的路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8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时小明与小亮相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=6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错误；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539640" y="549360"/>
            <a:ext cx="81378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成本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此公司产品的销售收入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87640" y="5805360"/>
            <a:ext cx="5113440" cy="360"/>
            <a:chOff x="2987640" y="5805360"/>
            <a:chExt cx="5113440" cy="360"/>
          </a:xfrm>
        </p:grpSpPr>
        <p:sp>
          <p:nvSpPr>
            <p:cNvPr id="268" name="直接连接符 16621"/>
            <p:cNvSpPr/>
            <p:nvPr/>
          </p:nvSpPr>
          <p:spPr>
            <a:xfrm>
              <a:off x="2987640" y="580536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987640" y="580536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5280" y="1773360"/>
            <a:ext cx="360" cy="4392360"/>
            <a:chOff x="3635280" y="1773360"/>
            <a:chExt cx="360" cy="4392360"/>
          </a:xfrm>
        </p:grpSpPr>
        <p:sp>
          <p:nvSpPr>
            <p:cNvPr id="271" name="直接连接符 16622"/>
            <p:cNvSpPr/>
            <p:nvPr/>
          </p:nvSpPr>
          <p:spPr>
            <a:xfrm>
              <a:off x="3635280" y="1773360"/>
              <a:ext cx="0" cy="43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635280" y="1773360"/>
              <a:ext cx="36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35280" y="5300640"/>
            <a:ext cx="73080" cy="360"/>
            <a:chOff x="3635280" y="5300640"/>
            <a:chExt cx="73080" cy="360"/>
          </a:xfrm>
        </p:grpSpPr>
        <p:sp>
          <p:nvSpPr>
            <p:cNvPr id="274" name="直接连接符 16623"/>
            <p:cNvSpPr/>
            <p:nvPr/>
          </p:nvSpPr>
          <p:spPr>
            <a:xfrm>
              <a:off x="3635280" y="5300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635280" y="530064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5280" y="4653000"/>
            <a:ext cx="73080" cy="360"/>
            <a:chOff x="3635280" y="4653000"/>
            <a:chExt cx="73080" cy="360"/>
          </a:xfrm>
        </p:grpSpPr>
        <p:sp>
          <p:nvSpPr>
            <p:cNvPr id="277" name="直接连接符 16624"/>
            <p:cNvSpPr/>
            <p:nvPr/>
          </p:nvSpPr>
          <p:spPr>
            <a:xfrm>
              <a:off x="3635280" y="46530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35280" y="46530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5280" y="4005360"/>
            <a:ext cx="73080" cy="360"/>
            <a:chOff x="3635280" y="4005360"/>
            <a:chExt cx="73080" cy="360"/>
          </a:xfrm>
        </p:grpSpPr>
        <p:sp>
          <p:nvSpPr>
            <p:cNvPr id="280" name="直接连接符 16625"/>
            <p:cNvSpPr/>
            <p:nvPr/>
          </p:nvSpPr>
          <p:spPr>
            <a:xfrm>
              <a:off x="3635280" y="4005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635280" y="4005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35280" y="3357720"/>
            <a:ext cx="73080" cy="360"/>
            <a:chOff x="3635280" y="3357720"/>
            <a:chExt cx="73080" cy="360"/>
          </a:xfrm>
        </p:grpSpPr>
        <p:sp>
          <p:nvSpPr>
            <p:cNvPr id="283" name="直接连接符 16626"/>
            <p:cNvSpPr/>
            <p:nvPr/>
          </p:nvSpPr>
          <p:spPr>
            <a:xfrm>
              <a:off x="3635280" y="3357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635280" y="3357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35280" y="2674800"/>
            <a:ext cx="73080" cy="360"/>
            <a:chOff x="3635280" y="2674800"/>
            <a:chExt cx="73080" cy="360"/>
          </a:xfrm>
        </p:grpSpPr>
        <p:sp>
          <p:nvSpPr>
            <p:cNvPr id="286" name="直接连接符 16627"/>
            <p:cNvSpPr/>
            <p:nvPr/>
          </p:nvSpPr>
          <p:spPr>
            <a:xfrm>
              <a:off x="3635280" y="26748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635280" y="26748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40360" y="5734080"/>
            <a:ext cx="360" cy="71280"/>
            <a:chOff x="4140360" y="5734080"/>
            <a:chExt cx="360" cy="71280"/>
          </a:xfrm>
        </p:grpSpPr>
        <p:sp>
          <p:nvSpPr>
            <p:cNvPr id="289" name="直接连接符 16628"/>
            <p:cNvSpPr/>
            <p:nvPr/>
          </p:nvSpPr>
          <p:spPr>
            <a:xfrm>
              <a:off x="4140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40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43280" y="5734080"/>
            <a:ext cx="360" cy="71280"/>
            <a:chOff x="4643280" y="5734080"/>
            <a:chExt cx="360" cy="71280"/>
          </a:xfrm>
        </p:grpSpPr>
        <p:sp>
          <p:nvSpPr>
            <p:cNvPr id="292" name="直接连接符 16630"/>
            <p:cNvSpPr/>
            <p:nvPr/>
          </p:nvSpPr>
          <p:spPr>
            <a:xfrm>
              <a:off x="46432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6432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48360" y="5734080"/>
            <a:ext cx="360" cy="71280"/>
            <a:chOff x="5148360" y="5734080"/>
            <a:chExt cx="360" cy="71280"/>
          </a:xfrm>
        </p:grpSpPr>
        <p:sp>
          <p:nvSpPr>
            <p:cNvPr id="295" name="直接连接符 16631"/>
            <p:cNvSpPr/>
            <p:nvPr/>
          </p:nvSpPr>
          <p:spPr>
            <a:xfrm>
              <a:off x="5148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148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651640" y="5734080"/>
            <a:ext cx="360" cy="71280"/>
            <a:chOff x="5651640" y="5734080"/>
            <a:chExt cx="360" cy="71280"/>
          </a:xfrm>
        </p:grpSpPr>
        <p:sp>
          <p:nvSpPr>
            <p:cNvPr id="298" name="直接连接符 16632"/>
            <p:cNvSpPr/>
            <p:nvPr/>
          </p:nvSpPr>
          <p:spPr>
            <a:xfrm>
              <a:off x="565164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5164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11800" y="5734080"/>
            <a:ext cx="360" cy="71280"/>
            <a:chOff x="6211800" y="5734080"/>
            <a:chExt cx="360" cy="71280"/>
          </a:xfrm>
        </p:grpSpPr>
        <p:sp>
          <p:nvSpPr>
            <p:cNvPr id="301" name="直接连接符 16633"/>
            <p:cNvSpPr/>
            <p:nvPr/>
          </p:nvSpPr>
          <p:spPr>
            <a:xfrm>
              <a:off x="621180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21180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88160" y="5734080"/>
            <a:ext cx="360" cy="71280"/>
            <a:chOff x="6788160" y="5734080"/>
            <a:chExt cx="360" cy="71280"/>
          </a:xfrm>
        </p:grpSpPr>
        <p:sp>
          <p:nvSpPr>
            <p:cNvPr id="304" name="直接连接符 16634"/>
            <p:cNvSpPr/>
            <p:nvPr/>
          </p:nvSpPr>
          <p:spPr>
            <a:xfrm>
              <a:off x="67881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7881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29680" y="5734080"/>
            <a:ext cx="360" cy="71280"/>
            <a:chOff x="7429680" y="5734080"/>
            <a:chExt cx="360" cy="71280"/>
          </a:xfrm>
        </p:grpSpPr>
        <p:sp>
          <p:nvSpPr>
            <p:cNvPr id="307" name="直接连接符 16636"/>
            <p:cNvSpPr/>
            <p:nvPr/>
          </p:nvSpPr>
          <p:spPr>
            <a:xfrm>
              <a:off x="74296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4296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6637"/>
          <p:cNvSpPr/>
          <p:nvPr/>
        </p:nvSpPr>
        <p:spPr>
          <a:xfrm>
            <a:off x="3203640" y="578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6638"/>
          <p:cNvSpPr/>
          <p:nvPr/>
        </p:nvSpPr>
        <p:spPr>
          <a:xfrm>
            <a:off x="7885080" y="5877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6639"/>
          <p:cNvSpPr/>
          <p:nvPr/>
        </p:nvSpPr>
        <p:spPr>
          <a:xfrm>
            <a:off x="3780000" y="1700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6640"/>
          <p:cNvSpPr/>
          <p:nvPr/>
        </p:nvSpPr>
        <p:spPr>
          <a:xfrm>
            <a:off x="284328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6641"/>
          <p:cNvSpPr/>
          <p:nvPr/>
        </p:nvSpPr>
        <p:spPr>
          <a:xfrm>
            <a:off x="2843280" y="44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642"/>
          <p:cNvSpPr/>
          <p:nvPr/>
        </p:nvSpPr>
        <p:spPr>
          <a:xfrm>
            <a:off x="284328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643"/>
          <p:cNvSpPr/>
          <p:nvPr/>
        </p:nvSpPr>
        <p:spPr>
          <a:xfrm>
            <a:off x="284328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6644"/>
          <p:cNvSpPr/>
          <p:nvPr/>
        </p:nvSpPr>
        <p:spPr>
          <a:xfrm>
            <a:off x="284328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645"/>
          <p:cNvSpPr/>
          <p:nvPr/>
        </p:nvSpPr>
        <p:spPr>
          <a:xfrm>
            <a:off x="3994200" y="5780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6646"/>
          <p:cNvSpPr/>
          <p:nvPr/>
        </p:nvSpPr>
        <p:spPr>
          <a:xfrm>
            <a:off x="4498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6647"/>
          <p:cNvSpPr/>
          <p:nvPr/>
        </p:nvSpPr>
        <p:spPr>
          <a:xfrm>
            <a:off x="500220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6648"/>
          <p:cNvSpPr/>
          <p:nvPr/>
        </p:nvSpPr>
        <p:spPr>
          <a:xfrm>
            <a:off x="5506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6649"/>
          <p:cNvSpPr/>
          <p:nvPr/>
        </p:nvSpPr>
        <p:spPr>
          <a:xfrm>
            <a:off x="6083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650"/>
          <p:cNvSpPr/>
          <p:nvPr/>
        </p:nvSpPr>
        <p:spPr>
          <a:xfrm>
            <a:off x="665964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651"/>
          <p:cNvSpPr/>
          <p:nvPr/>
        </p:nvSpPr>
        <p:spPr>
          <a:xfrm>
            <a:off x="7307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630600" y="3357720"/>
            <a:ext cx="2021040" cy="360"/>
            <a:chOff x="3630600" y="3357720"/>
            <a:chExt cx="2021040" cy="360"/>
          </a:xfrm>
        </p:grpSpPr>
        <p:sp>
          <p:nvSpPr>
            <p:cNvPr id="325" name="直接连接符 16652"/>
            <p:cNvSpPr/>
            <p:nvPr/>
          </p:nvSpPr>
          <p:spPr>
            <a:xfrm>
              <a:off x="3630600" y="3357720"/>
              <a:ext cx="2021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630600" y="3357720"/>
              <a:ext cx="20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51280" y="3357360"/>
            <a:ext cx="360" cy="2447640"/>
            <a:chOff x="5651280" y="3357360"/>
            <a:chExt cx="360" cy="2447640"/>
          </a:xfrm>
        </p:grpSpPr>
        <p:sp>
          <p:nvSpPr>
            <p:cNvPr id="328" name="直接连接符 16653"/>
            <p:cNvSpPr/>
            <p:nvPr/>
          </p:nvSpPr>
          <p:spPr>
            <a:xfrm flipV="1">
              <a:off x="5651640" y="3357360"/>
              <a:ext cx="0" cy="2447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5651280" y="3357360"/>
              <a:ext cx="36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634920" y="2133360"/>
            <a:ext cx="3024720" cy="3671640"/>
            <a:chOff x="3634920" y="2133360"/>
            <a:chExt cx="3024720" cy="3671640"/>
          </a:xfrm>
        </p:grpSpPr>
        <p:sp>
          <p:nvSpPr>
            <p:cNvPr id="331" name="直接连接符 16654"/>
            <p:cNvSpPr/>
            <p:nvPr/>
          </p:nvSpPr>
          <p:spPr>
            <a:xfrm flipV="1">
              <a:off x="3635280" y="2133360"/>
              <a:ext cx="3024360" cy="3671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3634920" y="2133360"/>
              <a:ext cx="3024360" cy="36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34920" y="2576160"/>
            <a:ext cx="3242160" cy="2087640"/>
            <a:chOff x="3634920" y="2576160"/>
            <a:chExt cx="3242160" cy="2087640"/>
          </a:xfrm>
        </p:grpSpPr>
        <p:sp>
          <p:nvSpPr>
            <p:cNvPr id="334" name="直接连接符 16655"/>
            <p:cNvSpPr/>
            <p:nvPr/>
          </p:nvSpPr>
          <p:spPr>
            <a:xfrm flipV="1">
              <a:off x="3635280" y="2576160"/>
              <a:ext cx="3241800" cy="20876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3634920" y="2575800"/>
              <a:ext cx="324180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6656"/>
          <p:cNvSpPr/>
          <p:nvPr/>
        </p:nvSpPr>
        <p:spPr>
          <a:xfrm>
            <a:off x="6946920" y="24922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6657"/>
          <p:cNvSpPr/>
          <p:nvPr/>
        </p:nvSpPr>
        <p:spPr>
          <a:xfrm>
            <a:off x="6730920" y="181944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95280" y="855720"/>
            <a:ext cx="845964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 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盈利（收入大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销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亏损（收入小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492360" y="9748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898560" y="150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1042920" y="265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629080" y="42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625840" y="4778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61928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62560" y="315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969840" y="373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62560" y="207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两个一次函数解决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466560" y="692280"/>
            <a:ext cx="763452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蜡烛燃烧试验中，甲、乙两根蜡烛燃烧时剩余部分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厘米）与燃烧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之间的关系如图所示，请根据图象所提供的信息解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甲、乙两根蜡烛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的高度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点燃到燃尽所用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对象 88077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457440" cy="307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2533680" y="301932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836720" y="43401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8093" descr="3482594300"/>
          <p:cNvPicPr/>
          <p:nvPr/>
        </p:nvPicPr>
        <p:blipFill>
          <a:blip r:embed="rId2"/>
          <a:stretch/>
        </p:blipFill>
        <p:spPr>
          <a:xfrm>
            <a:off x="6300720" y="5805360"/>
            <a:ext cx="1133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1258920" y="558720"/>
            <a:ext cx="66960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求甲、乙两根蜡烛燃烧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燃烧多长时间时，甲、乙两根蜡烛的高度相等（不考虑都燃尽时的情况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746360" y="17938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18160" y="17938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277164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771640" y="57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700360" y="45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376280" y="2565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一次函数的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左大括号 17"/>
          <p:cNvSpPr/>
          <p:nvPr/>
        </p:nvSpPr>
        <p:spPr>
          <a:xfrm>
            <a:off x="3708360" y="1557360"/>
            <a:ext cx="219240" cy="3181320"/>
          </a:xfrm>
          <a:custGeom>
            <a:avLst/>
            <a:gdLst>
              <a:gd name="textAreaLeft" fmla="*/ 140040 w 219240"/>
              <a:gd name="textAreaRight" fmla="*/ 219600 w 219240"/>
              <a:gd name="textAreaTop" fmla="*/ 7920 h 3181320"/>
              <a:gd name="textAreaBottom" fmla="*/ 3173400 h 31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3"/>
                </a:cubicBezTo>
                <a:lnTo>
                  <a:pt x="10800" y="10627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3"/>
                </a:cubicBezTo>
                <a:lnTo>
                  <a:pt x="10800" y="21427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995640" y="4437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选择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24360" y="11984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生活中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716040" y="620640"/>
            <a:ext cx="128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6040" y="1096920"/>
            <a:ext cx="727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为了教学，需要在家上网查资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信公司提供了两种上网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月租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再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帮老师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何种方式上网更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7_corp_title04"/>
          <p:cNvPicPr/>
          <p:nvPr/>
        </p:nvPicPr>
        <p:blipFill>
          <a:blip r:embed="rId1"/>
          <a:stretch/>
        </p:blipFill>
        <p:spPr>
          <a:xfrm>
            <a:off x="4630680" y="3800520"/>
            <a:ext cx="313236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4"/>
          <p:cNvGrpSpPr/>
          <p:nvPr/>
        </p:nvGrpSpPr>
        <p:grpSpPr>
          <a:xfrm>
            <a:off x="752400" y="1738440"/>
            <a:ext cx="7820280" cy="4613040"/>
            <a:chOff x="752400" y="1738440"/>
            <a:chExt cx="7820280" cy="4613040"/>
          </a:xfrm>
        </p:grpSpPr>
        <p:sp>
          <p:nvSpPr>
            <p:cNvPr id="82" name="Text Box 2"/>
            <p:cNvSpPr/>
            <p:nvPr/>
          </p:nvSpPr>
          <p:spPr>
            <a:xfrm>
              <a:off x="1295280" y="1743120"/>
              <a:ext cx="72774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、乙两地相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:00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骑自行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 km/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小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坐公共汽车也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/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小明所用的时间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与甲地的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红与甲地的距离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752400" y="17384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</a:rPr>
                <a:t>1.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7840" y="4536000"/>
              <a:ext cx="49474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函数关系式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在同一个直角坐标系中，画出这两个函数的图象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并指出谁先到达乙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圆角矩形 31"/>
          <p:cNvSpPr/>
          <p:nvPr/>
        </p:nvSpPr>
        <p:spPr>
          <a:xfrm>
            <a:off x="716040" y="1266840"/>
            <a:ext cx="1179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6147"/>
          <p:cNvGrpSpPr/>
          <p:nvPr/>
        </p:nvGrpSpPr>
        <p:grpSpPr>
          <a:xfrm>
            <a:off x="325440" y="246240"/>
            <a:ext cx="3405240" cy="805320"/>
            <a:chOff x="325440" y="246240"/>
            <a:chExt cx="3405240" cy="805320"/>
          </a:xfrm>
        </p:grpSpPr>
        <p:sp>
          <p:nvSpPr>
            <p:cNvPr id="88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1"/>
            <p:cNvSpPr/>
            <p:nvPr/>
          </p:nvSpPr>
          <p:spPr>
            <a:xfrm>
              <a:off x="3195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两个一次函数解决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465200" y="3065400"/>
            <a:ext cx="588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由于小红比小明晚出发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小红所用时间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自变量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≤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≤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401840" y="762120"/>
            <a:ext cx="4687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206280" y="1609560"/>
            <a:ext cx="8839080" cy="1457280"/>
            <a:chOff x="206280" y="1609560"/>
            <a:chExt cx="8839080" cy="1457280"/>
          </a:xfrm>
        </p:grpSpPr>
        <p:sp>
          <p:nvSpPr>
            <p:cNvPr id="96" name="Rectangle 6"/>
            <p:cNvSpPr/>
            <p:nvPr/>
          </p:nvSpPr>
          <p:spPr>
            <a:xfrm>
              <a:off x="206280" y="1685880"/>
              <a:ext cx="309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25120" y="1609560"/>
              <a:ext cx="822024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小明所用时间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h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由“路程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速度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时间”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可知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8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自变量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取值范围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1260360" y="5378400"/>
            <a:ext cx="6791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射线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l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平行，它先与射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相交，这表明小红先到达乙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511200" y="1628640"/>
            <a:ext cx="8610480" cy="3678480"/>
            <a:chOff x="511200" y="1628640"/>
            <a:chExt cx="8610480" cy="3678480"/>
          </a:xfrm>
        </p:grpSpPr>
        <p:sp>
          <p:nvSpPr>
            <p:cNvPr id="100" name="Rectangle 6"/>
            <p:cNvSpPr/>
            <p:nvPr/>
          </p:nvSpPr>
          <p:spPr>
            <a:xfrm>
              <a:off x="511200" y="1628640"/>
              <a:ext cx="8610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以上两个函数的图象画在同一个直角坐标系中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如图所示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1" descr="w134"/>
            <p:cNvPicPr/>
            <p:nvPr/>
          </p:nvPicPr>
          <p:blipFill>
            <a:blip r:embed="rId1"/>
            <a:stretch/>
          </p:blipFill>
          <p:spPr>
            <a:xfrm>
              <a:off x="2697120" y="2624040"/>
              <a:ext cx="4393800" cy="26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Rectangle 15"/>
          <p:cNvSpPr/>
          <p:nvPr/>
        </p:nvSpPr>
        <p:spPr>
          <a:xfrm>
            <a:off x="304920" y="5065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个直角坐标系中，画出这两个函数的图象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谁先到达乙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09560" y="868320"/>
            <a:ext cx="79916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骑自行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的速度沿公路行驶，出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后，乙骑摩托车从同一地点出发沿公路与甲同向行驶，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甲离开出发地的时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45784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乙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4440" y="3938760"/>
            <a:ext cx="17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(x≥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14440" y="5694480"/>
            <a:ext cx="22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(x≥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1"/>
          <p:cNvSpPr/>
          <p:nvPr/>
        </p:nvSpPr>
        <p:spPr>
          <a:xfrm>
            <a:off x="716040" y="692280"/>
            <a:ext cx="10731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390600" y="28195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5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甲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7"/>
          <p:cNvSpPr/>
          <p:nvPr/>
        </p:nvSpPr>
        <p:spPr>
          <a:xfrm>
            <a:off x="3075120" y="15969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4371840" y="2297160"/>
            <a:ext cx="194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2886120" y="1347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2268360" y="5065200"/>
            <a:ext cx="3865680" cy="162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 flipH="1" flipV="1">
            <a:off x="2871720" y="1553760"/>
            <a:ext cx="22320" cy="3853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 flipV="1">
            <a:off x="3379680" y="50097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 flipV="1">
            <a:off x="2878200" y="4485960"/>
            <a:ext cx="96840" cy="11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 flipV="1">
            <a:off x="3900600" y="500184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6"/>
          <p:cNvSpPr/>
          <p:nvPr/>
        </p:nvSpPr>
        <p:spPr>
          <a:xfrm flipV="1">
            <a:off x="4403880" y="4998960"/>
            <a:ext cx="0" cy="77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7"/>
          <p:cNvSpPr/>
          <p:nvPr/>
        </p:nvSpPr>
        <p:spPr>
          <a:xfrm flipV="1">
            <a:off x="4916520" y="4997520"/>
            <a:ext cx="0" cy="792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8"/>
          <p:cNvSpPr/>
          <p:nvPr/>
        </p:nvSpPr>
        <p:spPr>
          <a:xfrm flipV="1">
            <a:off x="5432400" y="49953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2894040" y="3286080"/>
            <a:ext cx="52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>
            <a:off x="2886120" y="27082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2876400" y="2101680"/>
            <a:ext cx="572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2882880" y="3890880"/>
            <a:ext cx="65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2565360" y="5019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5781600" y="50626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5292720" y="505152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4249800" y="5057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41840" y="5072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3201840" y="508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2411280" y="4290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411280" y="1908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2411280" y="2452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2411280" y="30510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2411280" y="366552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4767120" y="5054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2894040" y="1566720"/>
            <a:ext cx="3011400" cy="351648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4411800" y="3284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2916360" y="32972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2916360" y="2104920"/>
            <a:ext cx="24476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V="1">
            <a:off x="4414680" y="1490400"/>
            <a:ext cx="1224000" cy="358452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2"/>
          <p:cNvSpPr/>
          <p:nvPr/>
        </p:nvSpPr>
        <p:spPr>
          <a:xfrm>
            <a:off x="2768760" y="33447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4645080" y="38624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4"/>
          <p:cNvSpPr/>
          <p:nvPr/>
        </p:nvSpPr>
        <p:spPr>
          <a:xfrm>
            <a:off x="1187280" y="5303880"/>
            <a:ext cx="640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可知，交点坐标是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,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甲出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后被乙追上，此时，两人距离出发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 flipV="1">
            <a:off x="5435640" y="21556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85800" y="422280"/>
            <a:ext cx="7272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直角坐标系中，画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函数的图像，并结合实际问题，解释图像中交点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09560" y="2278080"/>
            <a:ext cx="7750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有职工几十人，想在节假日期间组织到外地旅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有甲、乙两家旅行社，它们服务质量基本相同，到此地旅游的价格都是每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联系协商，甲旅行社表示可给予每位游客八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旅行社表示单位先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后，给予每位游客六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该单位选择哪个旅行社，可使其支付的旅游总费用较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1:30Z</dcterms:created>
  <dc:creator> </dc:creator>
  <dc:description> </dc:description>
  <dc:language>en-US</dc:language>
  <cp:lastModifiedBy>Administrator</cp:lastModifiedBy>
  <dcterms:modified xsi:type="dcterms:W3CDTF">2018-12-29T02:51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